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7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986360" cy="37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307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DF386-03C8-42DF-A980-D67C1F58A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B8DA9-B99E-465A-8AB8-B07F32711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2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40BC0-5849-468C-9CD1-FBD83DE92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279D5-C247-4900-BD1D-A62421732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9C09E-0841-4A9D-93A7-148CEB0C7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C1AB2-6A0C-4411-93C9-ED23CF2BD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AB78-2D00-4F55-9790-1E9729D5C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D01A1-7DCB-4ED5-BAF1-F2F5E1C1E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378080" y="76356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7544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0DCB-2C21-4AC0-9DEA-F8E2EA421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FEC89-3804-4643-807C-6CA195C9A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A31AE-BBCA-4A94-8C0B-7D9AB8F26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F90B-1DE3-4825-8423-CF881F688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32DB8-473C-4F0F-B9ED-721EEF9F6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682F8-2B75-4E28-9D94-D3E7903B9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92DE8-E8D8-4579-A1D6-2F01FD017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17E5-8F1F-4A88-8F22-2A71B68BC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398840" y="9555120"/>
            <a:ext cx="333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B29F0-5C2B-44AF-BC5D-7BB2E296E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E38-1474-47E9-BC23-A0AC3861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59C-FB2F-4084-BE2F-F9B66F08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E5E-DD5C-4730-A4C4-6CD73B2C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EDE-4024-49EE-A054-4847F992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D19-AAF7-4A2B-9670-CBC91AD4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DEE2-CDBA-428B-B60B-44E30822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19BB-58EA-400B-8096-0C483E9C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67DE-A628-46CA-8978-34E7E8C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071D-31AC-48F9-9573-FCB1BAED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D25B-025B-4F41-9202-8FCC8FF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40F7-E6C2-471D-B70B-A7D2219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9A2-63A9-4937-A805-E19F55A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2AA3-B78E-4A6E-A323-6EE4EE6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EE9-19D1-4612-9A6F-1D0139D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9AB6-0DC6-456F-8BFE-E79BC34B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8F3-9C4F-44E7-855A-233B4BB3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0B53-0A06-4AE9-985E-18562911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27B4-FC57-48EC-B33E-C6F1CD6E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7BCD-5077-4C7B-B768-6DFCD7B5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9AE1-4292-43EA-9CBF-F860728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CFBC-2EDD-4AB0-9071-4EEB9C5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942E-609F-429B-879E-9DEEEC3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C89-B93F-4DDD-8C47-D2521FAB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2244-FA18-44B9-9C3B-B0CF79D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841B-BC70-41DC-973B-5C23B19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0CA6-3B5F-4913-B156-A1B838B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9176-A4C1-452F-AEFD-3C2F92B9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96FD-3B6B-45DA-B21E-7E86574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E3C7-DC56-473C-BD0E-6B514F2A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F5C9-FE97-4AEB-A485-298045C2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3208-6539-4FE7-A1C4-EC0D4829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CD9A-9D33-48AE-81E2-A7DE3A9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1B837-504F-40D1-B931-44ACFF7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BD2-5836-4C23-BA67-98C428F8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89EB-F2CB-423A-9A70-70F4F95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4911-1773-465B-B7F2-F06937C3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CD896-FC5E-49FA-87C8-90E3D9AB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BC43-B6C5-4285-B89A-426308C9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8A24-7D22-4CA0-B446-8180977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B224-D396-4967-ABB7-2BA21EA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5B62-E59A-4220-BCBB-EC72BA3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8B53-32D7-4EFB-BF97-6CE05533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5572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08160" y="176796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5572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08160" y="4186080"/>
            <a:ext cx="290664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66EF-A22D-4C8C-BFD5-9C4C9213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BA4-57BF-4763-9671-5C9099CD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80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92A-802C-43E2-8EE3-076838A2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D0D-B3EE-4F0F-A5AE-834D399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9640" y="418608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3E2-5720-46B9-9835-81B2EFEE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9640" y="1767960"/>
            <a:ext cx="44056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6080"/>
            <a:ext cx="9028080" cy="22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055-B91C-4221-BF5F-8DF98507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80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280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050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528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05080" cy="4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68074-D40E-489B-95A9-B4A2F4CC2E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Text Box 8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661D9-3615-4832-9435-D1DE89DD4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C0117-3B39-4BEC-88A4-2B7D392B0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2484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24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496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01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1DEA6-2544-45A1-8FDF-DE6FF4871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SPECS Logo11"/>
          <p:cNvPicPr/>
          <p:nvPr/>
        </p:nvPicPr>
        <p:blipFill>
          <a:blip r:embed="rId1"/>
          <a:stretch/>
        </p:blipFill>
        <p:spPr>
          <a:xfrm>
            <a:off x="7920000" y="971640"/>
            <a:ext cx="2160720" cy="9968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504720" y="2340000"/>
            <a:ext cx="907272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ctic Sea Ice Predictability and Prediction on Seasonal-to-Decadal Timesca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60360" y="5075280"/>
            <a:ext cx="943308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ginie Guema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Edward Blanchard-Wrigglesworth, Matthieu Chevallier, Michel Déqué, Francisco Doblas-Reyes, Neven S Fuckar, Francois Massonnet, Danila Volpi, David Salas y Mél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0" descr="MINECO"/>
          <p:cNvPicPr/>
          <p:nvPr/>
        </p:nvPicPr>
        <p:blipFill>
          <a:blip r:embed="rId2"/>
          <a:srcRect l="0" t="2968" r="0" b="2968"/>
          <a:stretch/>
        </p:blipFill>
        <p:spPr>
          <a:xfrm>
            <a:off x="0" y="927000"/>
            <a:ext cx="2225520" cy="91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2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216000" y="1908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omaly versus Full Field Initial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44360" y="2556000"/>
            <a:ext cx="964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C-Earth2.3, 5 members, start dates every 2 years from 1960 to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35"/>
          <p:cNvSpPr/>
          <p:nvPr/>
        </p:nvSpPr>
        <p:spPr>
          <a:xfrm>
            <a:off x="216000" y="6804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IN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storical simul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9"/>
          <p:cNvSpPr/>
          <p:nvPr/>
        </p:nvSpPr>
        <p:spPr>
          <a:xfrm>
            <a:off x="216000" y="305928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F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field initialization from ORAS4 + ER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44"/>
          <p:cNvSpPr/>
          <p:nvPr/>
        </p:nvSpPr>
        <p:spPr>
          <a:xfrm>
            <a:off x="216000" y="3708360"/>
            <a:ext cx="9217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OSI-A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cean and sea ice anomaly initialization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ons to ensure consistenc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216000" y="4788000"/>
            <a:ext cx="9864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664d"/>
                </a:solidFill>
                <a:latin typeface="Arial"/>
              </a:rPr>
              <a:t>rho-OSI-wA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 and sea ice weighted anoma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to account for the different mode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d amplitudes of variability + (density, temperatur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(temperature, salinity) anomaly initialis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ila.volpi@ic3.c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71280" y="2914560"/>
            <a:ext cx="4969080" cy="3457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5040360" y="2914560"/>
            <a:ext cx="5000400" cy="34578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8458200" y="5519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03280" y="2701800"/>
            <a:ext cx="43862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MSE sea ice are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f: Guemas et al (201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796000" y="2701800"/>
            <a:ext cx="4213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MSE sea ice volum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ef: Guemas et al (2014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863640" y="441000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O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36"/>
          <p:cNvSpPr/>
          <p:nvPr/>
        </p:nvSpPr>
        <p:spPr>
          <a:xfrm>
            <a:off x="6870600" y="4383000"/>
            <a:ext cx="13384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O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39"/>
          <p:cNvSpPr/>
          <p:nvPr/>
        </p:nvSpPr>
        <p:spPr>
          <a:xfrm>
            <a:off x="3384720" y="416556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F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40"/>
          <p:cNvSpPr/>
          <p:nvPr/>
        </p:nvSpPr>
        <p:spPr>
          <a:xfrm>
            <a:off x="5862600" y="4626000"/>
            <a:ext cx="13384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FF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43"/>
          <p:cNvSpPr/>
          <p:nvPr/>
        </p:nvSpPr>
        <p:spPr>
          <a:xfrm>
            <a:off x="8526600" y="419400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-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44"/>
          <p:cNvSpPr/>
          <p:nvPr/>
        </p:nvSpPr>
        <p:spPr>
          <a:xfrm rot="5400000">
            <a:off x="4008600" y="4770720"/>
            <a:ext cx="13381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SI-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6"/>
          <p:cNvSpPr/>
          <p:nvPr/>
        </p:nvSpPr>
        <p:spPr>
          <a:xfrm>
            <a:off x="1871640" y="5273640"/>
            <a:ext cx="22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</a:rPr>
              <a:t>rho-OSI-w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47"/>
          <p:cNvSpPr/>
          <p:nvPr/>
        </p:nvSpPr>
        <p:spPr>
          <a:xfrm>
            <a:off x="7272360" y="5364000"/>
            <a:ext cx="22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Arial"/>
              </a:rPr>
              <a:t>rho-OSI-w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216000" y="190800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omaly versus Full Field Initial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ila.volpi@ic3.c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wer forecast error when using ocean and sea ice anomaly initialization, even lower with weighted anoma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503280" y="2303640"/>
            <a:ext cx="90741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RM-CM5.1 and EC-Earth2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forecasts initialized ever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 and ever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from 1990 to 2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month lo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zed from ERA-interim for the atmosphere + in-home sea ice reconstructions + ORAS4 (Ec-Earth2.3) or ocean reconstruction (CNRM-CM5.1) for the oc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members using initial perturbations applied to all components for EC-Earth2.3, only the atmosphere  for CNRM-CM5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1032" descr="S:\guemas\Téléchargements\MASKS.png"/>
          <p:cNvPicPr/>
          <p:nvPr/>
        </p:nvPicPr>
        <p:blipFill>
          <a:blip r:embed="rId2"/>
          <a:srcRect l="0" t="4896" r="0" b="4887"/>
          <a:stretch/>
        </p:blipFill>
        <p:spPr>
          <a:xfrm>
            <a:off x="152280" y="1728720"/>
            <a:ext cx="7904160" cy="550728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033"/>
          <p:cNvSpPr/>
          <p:nvPr/>
        </p:nvSpPr>
        <p:spPr>
          <a:xfrm>
            <a:off x="7686720" y="1979640"/>
            <a:ext cx="369720" cy="2592360"/>
          </a:xfrm>
          <a:custGeom>
            <a:avLst/>
            <a:gdLst>
              <a:gd name="textAreaLeft" fmla="*/ 0 w 369720"/>
              <a:gd name="textAreaRight" fmla="*/ 133560 w 369720"/>
              <a:gd name="textAreaTop" fmla="*/ 96480 h 2592360"/>
              <a:gd name="textAreaBottom" fmla="*/ 24958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88"/>
                  <a:pt x="10800" y="2576"/>
                </a:cubicBezTo>
                <a:lnTo>
                  <a:pt x="10800" y="8224"/>
                </a:lnTo>
                <a:cubicBezTo>
                  <a:pt x="10800" y="9512"/>
                  <a:pt x="16200" y="10800"/>
                  <a:pt x="21600" y="10800"/>
                </a:cubicBezTo>
                <a:cubicBezTo>
                  <a:pt x="16200" y="10800"/>
                  <a:pt x="10800" y="12088"/>
                  <a:pt x="10800" y="13376"/>
                </a:cubicBezTo>
                <a:lnTo>
                  <a:pt x="10800" y="19024"/>
                </a:lnTo>
                <a:cubicBezTo>
                  <a:pt x="10800" y="2031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034"/>
          <p:cNvSpPr/>
          <p:nvPr/>
        </p:nvSpPr>
        <p:spPr>
          <a:xfrm>
            <a:off x="8220240" y="2944800"/>
            <a:ext cx="178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Summer predi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035"/>
          <p:cNvSpPr/>
          <p:nvPr/>
        </p:nvSpPr>
        <p:spPr>
          <a:xfrm>
            <a:off x="7686720" y="3995640"/>
            <a:ext cx="369720" cy="2243160"/>
          </a:xfrm>
          <a:custGeom>
            <a:avLst/>
            <a:gdLst>
              <a:gd name="textAreaLeft" fmla="*/ 0 w 369720"/>
              <a:gd name="textAreaRight" fmla="*/ 133560 w 369720"/>
              <a:gd name="textAreaTop" fmla="*/ 96480 h 2243160"/>
              <a:gd name="textAreaBottom" fmla="*/ 21466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89"/>
                  <a:pt x="10800" y="2978"/>
                </a:cubicBezTo>
                <a:lnTo>
                  <a:pt x="10800" y="7822"/>
                </a:lnTo>
                <a:cubicBezTo>
                  <a:pt x="10800" y="9311"/>
                  <a:pt x="16200" y="10800"/>
                  <a:pt x="21600" y="10800"/>
                </a:cubicBezTo>
                <a:cubicBezTo>
                  <a:pt x="16200" y="10800"/>
                  <a:pt x="10800" y="12289"/>
                  <a:pt x="10800" y="13778"/>
                </a:cubicBezTo>
                <a:lnTo>
                  <a:pt x="10800" y="18622"/>
                </a:lnTo>
                <a:cubicBezTo>
                  <a:pt x="10800" y="2011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36"/>
          <p:cNvSpPr/>
          <p:nvPr/>
        </p:nvSpPr>
        <p:spPr>
          <a:xfrm>
            <a:off x="6056280" y="6238800"/>
            <a:ext cx="1630440" cy="70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037"/>
          <p:cNvSpPr/>
          <p:nvPr/>
        </p:nvSpPr>
        <p:spPr>
          <a:xfrm>
            <a:off x="8220240" y="4859280"/>
            <a:ext cx="17888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Winter predi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038"/>
          <p:cNvSpPr/>
          <p:nvPr/>
        </p:nvSpPr>
        <p:spPr>
          <a:xfrm>
            <a:off x="2814480" y="2556000"/>
            <a:ext cx="10731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e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039"/>
          <p:cNvSpPr/>
          <p:nvPr/>
        </p:nvSpPr>
        <p:spPr>
          <a:xfrm rot="18695400">
            <a:off x="3821760" y="2471760"/>
            <a:ext cx="1484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khot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040"/>
          <p:cNvSpPr/>
          <p:nvPr/>
        </p:nvSpPr>
        <p:spPr>
          <a:xfrm>
            <a:off x="2708280" y="5272200"/>
            <a:ext cx="1539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reenl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041"/>
          <p:cNvSpPr/>
          <p:nvPr/>
        </p:nvSpPr>
        <p:spPr>
          <a:xfrm rot="1920000">
            <a:off x="3555360" y="5179680"/>
            <a:ext cx="1574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r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42"/>
          <p:cNvSpPr/>
          <p:nvPr/>
        </p:nvSpPr>
        <p:spPr>
          <a:xfrm rot="1173000">
            <a:off x="3857400" y="4428360"/>
            <a:ext cx="930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a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043"/>
          <p:cNvSpPr/>
          <p:nvPr/>
        </p:nvSpPr>
        <p:spPr>
          <a:xfrm rot="19092600">
            <a:off x="1837440" y="4830120"/>
            <a:ext cx="1146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ff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1044"/>
          <p:cNvSpPr/>
          <p:nvPr/>
        </p:nvSpPr>
        <p:spPr>
          <a:xfrm>
            <a:off x="1303200" y="4427640"/>
            <a:ext cx="1216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uds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11" descr="S:\guemas\WORKDIR\plots\detrended_cor_sie_TotalArc_minus_Baltic_Sea.jpg"/>
          <p:cNvPicPr/>
          <p:nvPr/>
        </p:nvPicPr>
        <p:blipFill>
          <a:blip r:embed="rId2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S:\guemas\WORKDIR\plots\detrended_cor_sie_Baffin.jpg"/>
          <p:cNvPicPr/>
          <p:nvPr/>
        </p:nvPicPr>
        <p:blipFill>
          <a:blip r:embed="rId3"/>
          <a:srcRect l="0" t="0" r="5273" b="10140"/>
          <a:stretch/>
        </p:blipFill>
        <p:spPr>
          <a:xfrm>
            <a:off x="5059440" y="2558880"/>
            <a:ext cx="4919760" cy="32371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1752480" y="2411280"/>
            <a:ext cx="1905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tal Arctic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6781680" y="2390760"/>
            <a:ext cx="19051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ffin B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4"/>
          <p:cNvSpPr/>
          <p:nvPr/>
        </p:nvSpPr>
        <p:spPr>
          <a:xfrm>
            <a:off x="1143000" y="5945040"/>
            <a:ext cx="6858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ability until March                         Similar performance between CNRM-CM5.1 and EC-Earth 2.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27"/>
          <p:cNvSpPr/>
          <p:nvPr/>
        </p:nvSpPr>
        <p:spPr>
          <a:xfrm flipH="1" flipV="1">
            <a:off x="8001000" y="5435280"/>
            <a:ext cx="990720" cy="144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7" name="Straight Arrow Connector 3"/>
          <p:cNvCxnSpPr/>
          <p:nvPr/>
        </p:nvCxnSpPr>
        <p:spPr>
          <a:xfrm flipV="1">
            <a:off x="6552720" y="3563640"/>
            <a:ext cx="22932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9"/>
          <p:cNvCxnSpPr/>
          <p:nvPr/>
        </p:nvCxnSpPr>
        <p:spPr>
          <a:xfrm flipV="1">
            <a:off x="6553080" y="3202920"/>
            <a:ext cx="79128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0" name="Straight Arrow Connector 23"/>
          <p:cNvCxnSpPr>
            <a:stCxn id="429" idx="0"/>
          </p:cNvCxnSpPr>
          <p:nvPr/>
        </p:nvCxnSpPr>
        <p:spPr>
          <a:xfrm flipV="1">
            <a:off x="8927640" y="3742560"/>
            <a:ext cx="6444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8" descr="S:\guemas\WORKDIR\plots\detrended_cor_sie_Grnland.jpg"/>
          <p:cNvPicPr/>
          <p:nvPr/>
        </p:nvPicPr>
        <p:blipFill>
          <a:blip r:embed="rId1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S:\guemas\WORKDIR\plots\detrended_cor_sie_BarKara.jpg"/>
          <p:cNvPicPr/>
          <p:nvPr/>
        </p:nvPicPr>
        <p:blipFill>
          <a:blip r:embed="rId2"/>
          <a:srcRect l="0" t="0" r="5273" b="10140"/>
          <a:stretch/>
        </p:blipFill>
        <p:spPr>
          <a:xfrm>
            <a:off x="5059440" y="2556000"/>
            <a:ext cx="4919760" cy="3236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1655640" y="2411280"/>
            <a:ext cx="2279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reenland Se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5977080" y="2390760"/>
            <a:ext cx="360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rents and Kara Se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1008000" y="5991120"/>
            <a:ext cx="685800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edictability for the first month only in Greenland, until March in Barents and Kara                        Better performance from CNRM-CM5.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3"/>
          <p:cNvCxnSpPr/>
          <p:nvPr/>
        </p:nvCxnSpPr>
        <p:spPr>
          <a:xfrm flipH="1" flipV="1">
            <a:off x="6264000" y="3923640"/>
            <a:ext cx="28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Straight Arrow Connector 19"/>
          <p:cNvCxnSpPr/>
          <p:nvPr/>
        </p:nvCxnSpPr>
        <p:spPr>
          <a:xfrm flipV="1">
            <a:off x="6552720" y="3131640"/>
            <a:ext cx="57564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9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Straight Arrow Connector 23"/>
          <p:cNvCxnSpPr>
            <a:stCxn id="449" idx="0"/>
          </p:cNvCxnSpPr>
          <p:nvPr/>
        </p:nvCxnSpPr>
        <p:spPr>
          <a:xfrm flipV="1">
            <a:off x="8928000" y="3347280"/>
            <a:ext cx="3240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Line 20"/>
          <p:cNvSpPr/>
          <p:nvPr/>
        </p:nvSpPr>
        <p:spPr>
          <a:xfrm flipH="1" flipV="1">
            <a:off x="8959680" y="5435640"/>
            <a:ext cx="36216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8959680" y="5435640"/>
            <a:ext cx="473400" cy="13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>
            <a:off x="4572000" y="4886280"/>
            <a:ext cx="46483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1" descr="S:\guemas\WORKDIR\plots\detrended_cor_sie_Okhotsk.jpg"/>
          <p:cNvPicPr/>
          <p:nvPr/>
        </p:nvPicPr>
        <p:blipFill>
          <a:blip r:embed="rId1"/>
          <a:srcRect l="0" t="0" r="0" b="9635"/>
          <a:stretch/>
        </p:blipFill>
        <p:spPr>
          <a:xfrm>
            <a:off x="108000" y="2556000"/>
            <a:ext cx="5167440" cy="3240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2" descr="S:\guemas\WORKDIR\plots\detrended_cor_sie_Bering.jpg"/>
          <p:cNvPicPr/>
          <p:nvPr/>
        </p:nvPicPr>
        <p:blipFill>
          <a:blip r:embed="rId2"/>
          <a:srcRect l="0" t="0" r="5273" b="10140"/>
          <a:stretch/>
        </p:blipFill>
        <p:spPr>
          <a:xfrm>
            <a:off x="5059440" y="2556000"/>
            <a:ext cx="4919760" cy="3236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Guemas (2014) in prep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I – Multi-model Sea Ice Predi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111240" y="2266920"/>
            <a:ext cx="9856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1655640" y="2411280"/>
            <a:ext cx="2279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khotsk Se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5977080" y="2390760"/>
            <a:ext cx="360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ring S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S:\guemas\Téléchargements\MASKS.png"/>
          <p:cNvPicPr/>
          <p:nvPr/>
        </p:nvPicPr>
        <p:blipFill>
          <a:blip r:embed="rId4"/>
          <a:srcRect l="0" t="0" r="25041" b="0"/>
          <a:stretch/>
        </p:blipFill>
        <p:spPr>
          <a:xfrm>
            <a:off x="8325000" y="5889600"/>
            <a:ext cx="1657080" cy="17067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8"/>
          <p:cNvSpPr/>
          <p:nvPr/>
        </p:nvSpPr>
        <p:spPr>
          <a:xfrm>
            <a:off x="431640" y="1863720"/>
            <a:ext cx="94345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nearly Detrended Anomaly Correlation for Sea Ice Extent (SI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914400" y="4375080"/>
            <a:ext cx="2122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EC-Earth 2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911160" y="4716360"/>
            <a:ext cx="2125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NRM-CM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936720" y="5045040"/>
            <a:ext cx="42894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EC-Earth 2.3 + CNRM-CM 5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533520" y="6265800"/>
            <a:ext cx="45720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1008000" y="5991120"/>
            <a:ext cx="6858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tter initialisation in Okhotsk Sea with CNRM-CM5: ocean ? Multi-model allows to make the most of individual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6048360" y="4284720"/>
            <a:ext cx="31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% confidence interval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0" name="Straight Arrow Connector 3"/>
          <p:cNvCxnSpPr/>
          <p:nvPr/>
        </p:nvCxnSpPr>
        <p:spPr>
          <a:xfrm flipH="1" flipV="1">
            <a:off x="6264000" y="3923640"/>
            <a:ext cx="2894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1" name="Straight Arrow Connector 19"/>
          <p:cNvCxnSpPr/>
          <p:nvPr/>
        </p:nvCxnSpPr>
        <p:spPr>
          <a:xfrm flipV="1">
            <a:off x="6553080" y="3131640"/>
            <a:ext cx="28800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2" name="TextBox 21"/>
          <p:cNvSpPr/>
          <p:nvPr/>
        </p:nvSpPr>
        <p:spPr>
          <a:xfrm>
            <a:off x="7848720" y="4716360"/>
            <a:ext cx="2160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3" name="Straight Arrow Connector 23"/>
          <p:cNvCxnSpPr>
            <a:stCxn id="472" idx="0"/>
          </p:cNvCxnSpPr>
          <p:nvPr/>
        </p:nvCxnSpPr>
        <p:spPr>
          <a:xfrm flipV="1">
            <a:off x="8927640" y="3924000"/>
            <a:ext cx="2134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Line 22"/>
          <p:cNvSpPr/>
          <p:nvPr/>
        </p:nvSpPr>
        <p:spPr>
          <a:xfrm>
            <a:off x="4535640" y="4992840"/>
            <a:ext cx="5005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18"/>
          <p:cNvSpPr/>
          <p:nvPr/>
        </p:nvSpPr>
        <p:spPr>
          <a:xfrm>
            <a:off x="9031320" y="5364000"/>
            <a:ext cx="1857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216000" y="1908000"/>
            <a:ext cx="9648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urces of sea ice predictability: persistence, ice  thickness preconditioning, advection, ocean heat transport, reemerge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ization: 1. Need to make the most of the growing sea ice observations (thickness, melt pond, ice drift)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2. Need for ensembles consistent with the atmospheric and oceanic sta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Need for further investigation of anomaly initialisation benefit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4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ction: winter predictability until March in the Baffin Bay, Kara, Barents and Okhotsk se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2"/>
          <a:srcRect l="0" t="3" r="0" b="50410"/>
          <a:stretch/>
        </p:blipFill>
        <p:spPr>
          <a:xfrm>
            <a:off x="449280" y="2649600"/>
            <a:ext cx="4735440" cy="4843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rcRect l="0" t="50635" r="0" b="-228"/>
          <a:stretch/>
        </p:blipFill>
        <p:spPr>
          <a:xfrm>
            <a:off x="5184720" y="2592360"/>
            <a:ext cx="4680000" cy="478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3095640" y="3132000"/>
            <a:ext cx="2952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Ice Thick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7632720" y="3151080"/>
            <a:ext cx="2592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Ice Thick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160720" y="7236000"/>
            <a:ext cx="561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vallier and Salas-Melia (2012) Journal of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ce thickness preconditio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168720" y="2644920"/>
            <a:ext cx="374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Thick ice = best predictor of September extent, thin ice good predictor for March ex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228600" y="4140360"/>
            <a:ext cx="54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  <a:ea typeface="MS PGothic"/>
              </a:rPr>
              <a:t>Chevallier and Salas y Mélia, JCLIM, 20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6"/>
          <p:cNvSpPr/>
          <p:nvPr/>
        </p:nvSpPr>
        <p:spPr>
          <a:xfrm flipH="1">
            <a:off x="6840000" y="399564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73"/>
          <p:cNvGrpSpPr/>
          <p:nvPr/>
        </p:nvGrpSpPr>
        <p:grpSpPr>
          <a:xfrm>
            <a:off x="144000" y="2365200"/>
            <a:ext cx="3124440" cy="1676520"/>
            <a:chOff x="144000" y="2365200"/>
            <a:chExt cx="3124440" cy="1676520"/>
          </a:xfrm>
        </p:grpSpPr>
        <p:sp>
          <p:nvSpPr>
            <p:cNvPr id="230" name="Line 17"/>
            <p:cNvSpPr/>
            <p:nvPr/>
          </p:nvSpPr>
          <p:spPr>
            <a:xfrm>
              <a:off x="220320" y="2365200"/>
              <a:ext cx="0" cy="160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 flipH="1">
              <a:off x="144000" y="3889440"/>
              <a:ext cx="312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220320" y="3660840"/>
              <a:ext cx="3045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525240" y="350820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830160" y="3355920"/>
              <a:ext cx="3045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135080" y="297468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592280" y="3355920"/>
              <a:ext cx="7621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2354400" y="373716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135080" y="2746080"/>
              <a:ext cx="1981440" cy="12956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6983280" y="2443320"/>
            <a:ext cx="2743200" cy="1600200"/>
            <a:chOff x="6983280" y="2443320"/>
            <a:chExt cx="2743200" cy="1600200"/>
          </a:xfrm>
        </p:grpSpPr>
        <p:sp>
          <p:nvSpPr>
            <p:cNvPr id="240" name="Line 25"/>
            <p:cNvSpPr/>
            <p:nvPr/>
          </p:nvSpPr>
          <p:spPr>
            <a:xfrm>
              <a:off x="6983280" y="244332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6983280" y="3738960"/>
              <a:ext cx="30456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7287840" y="3586320"/>
              <a:ext cx="3045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7592760" y="3434040"/>
              <a:ext cx="3045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7897680" y="305280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8354880" y="3434040"/>
              <a:ext cx="7617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9117000" y="3814920"/>
              <a:ext cx="60948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34"/>
            <p:cNvSpPr/>
            <p:nvPr/>
          </p:nvSpPr>
          <p:spPr>
            <a:xfrm>
              <a:off x="6983280" y="3281400"/>
              <a:ext cx="914400" cy="762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2"/>
          <p:cNvGrpSpPr/>
          <p:nvPr/>
        </p:nvGrpSpPr>
        <p:grpSpPr>
          <a:xfrm>
            <a:off x="790560" y="4156200"/>
            <a:ext cx="4105440" cy="3079800"/>
            <a:chOff x="790560" y="4156200"/>
            <a:chExt cx="4105440" cy="3079800"/>
          </a:xfrm>
        </p:grpSpPr>
        <p:pic>
          <p:nvPicPr>
            <p:cNvPr id="249" name="Picture 14" descr="Determination_SEP"/>
            <p:cNvPicPr/>
            <p:nvPr/>
          </p:nvPicPr>
          <p:blipFill>
            <a:blip r:embed="rId2"/>
            <a:stretch/>
          </p:blipFill>
          <p:spPr>
            <a:xfrm>
              <a:off x="790560" y="4156200"/>
              <a:ext cx="41054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35"/>
            <p:cNvSpPr/>
            <p:nvPr/>
          </p:nvSpPr>
          <p:spPr>
            <a:xfrm>
              <a:off x="790560" y="4176720"/>
              <a:ext cx="4105440" cy="305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38"/>
            <p:cNvSpPr/>
            <p:nvPr/>
          </p:nvSpPr>
          <p:spPr>
            <a:xfrm>
              <a:off x="3743640" y="47530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40"/>
            <p:cNvSpPr/>
            <p:nvPr/>
          </p:nvSpPr>
          <p:spPr>
            <a:xfrm>
              <a:off x="3167280" y="5257800"/>
              <a:ext cx="576000" cy="21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2"/>
            <p:cNvSpPr/>
            <p:nvPr/>
          </p:nvSpPr>
          <p:spPr>
            <a:xfrm>
              <a:off x="2951280" y="5689800"/>
              <a:ext cx="144360" cy="287280"/>
            </a:xfrm>
            <a:prstGeom prst="line">
              <a:avLst/>
            </a:prstGeom>
            <a:ln w="93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3"/>
            <p:cNvSpPr/>
            <p:nvPr/>
          </p:nvSpPr>
          <p:spPr>
            <a:xfrm>
              <a:off x="1366560" y="5832720"/>
              <a:ext cx="17272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cc0000"/>
                  </a:solidFill>
                  <a:latin typeface="Arial"/>
                </a:rPr>
                <a:t>Total volu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4"/>
            <p:cNvSpPr/>
            <p:nvPr/>
          </p:nvSpPr>
          <p:spPr>
            <a:xfrm>
              <a:off x="2664000" y="6193080"/>
              <a:ext cx="1008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45"/>
            <p:cNvSpPr/>
            <p:nvPr/>
          </p:nvSpPr>
          <p:spPr>
            <a:xfrm>
              <a:off x="1331640" y="4500720"/>
              <a:ext cx="13683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37"/>
            <p:cNvSpPr/>
            <p:nvPr/>
          </p:nvSpPr>
          <p:spPr>
            <a:xfrm>
              <a:off x="2448000" y="4537080"/>
              <a:ext cx="172728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 are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39"/>
            <p:cNvSpPr/>
            <p:nvPr/>
          </p:nvSpPr>
          <p:spPr>
            <a:xfrm>
              <a:off x="1438200" y="4897440"/>
              <a:ext cx="237672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Area of ice h &gt; 0.9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41"/>
            <p:cNvSpPr/>
            <p:nvPr/>
          </p:nvSpPr>
          <p:spPr>
            <a:xfrm>
              <a:off x="1295280" y="5383440"/>
              <a:ext cx="237672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990099"/>
                  </a:solidFill>
                  <a:latin typeface="Arial"/>
                </a:rPr>
                <a:t>Area of ice h &gt; 1.5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0" name="Picture 15" descr="Determination_MAR"/>
          <p:cNvPicPr/>
          <p:nvPr/>
        </p:nvPicPr>
        <p:blipFill>
          <a:blip r:embed="rId3"/>
          <a:stretch/>
        </p:blipFill>
        <p:spPr>
          <a:xfrm>
            <a:off x="5386320" y="4140360"/>
            <a:ext cx="4106880" cy="3081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35"/>
          <p:cNvSpPr/>
          <p:nvPr/>
        </p:nvSpPr>
        <p:spPr>
          <a:xfrm>
            <a:off x="5388120" y="4156200"/>
            <a:ext cx="4105080" cy="30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6"/>
          <p:cNvSpPr/>
          <p:nvPr/>
        </p:nvSpPr>
        <p:spPr>
          <a:xfrm>
            <a:off x="8340840" y="477036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47"/>
          <p:cNvSpPr/>
          <p:nvPr/>
        </p:nvSpPr>
        <p:spPr>
          <a:xfrm>
            <a:off x="8267760" y="5275440"/>
            <a:ext cx="576360" cy="215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5892840" y="5400720"/>
            <a:ext cx="237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Area of ice h &lt; 1.5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7980480" y="5796000"/>
            <a:ext cx="64764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5964120" y="5850000"/>
            <a:ext cx="1727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Total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7477200" y="6083280"/>
            <a:ext cx="115092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52"/>
          <p:cNvSpPr/>
          <p:nvPr/>
        </p:nvSpPr>
        <p:spPr>
          <a:xfrm>
            <a:off x="5929200" y="4460760"/>
            <a:ext cx="1368360" cy="9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7045200" y="4554360"/>
            <a:ext cx="1727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are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4"/>
          <p:cNvSpPr/>
          <p:nvPr/>
        </p:nvSpPr>
        <p:spPr>
          <a:xfrm>
            <a:off x="6035760" y="4913280"/>
            <a:ext cx="2376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rea of ice h &lt; 0.9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rcRect l="0" t="10878" r="0" b="11781"/>
          <a:stretch/>
        </p:blipFill>
        <p:spPr>
          <a:xfrm>
            <a:off x="936720" y="2432160"/>
            <a:ext cx="8156520" cy="47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"/>
          <p:cNvPicPr/>
          <p:nvPr/>
        </p:nvPicPr>
        <p:blipFill>
          <a:blip r:embed="rId1"/>
          <a:srcRect l="0" t="4255" r="0" b="3130"/>
          <a:stretch/>
        </p:blipFill>
        <p:spPr>
          <a:xfrm>
            <a:off x="144360" y="3108240"/>
            <a:ext cx="4876920" cy="4206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rcRect l="0" t="4366" r="0" b="3019"/>
          <a:stretch/>
        </p:blipFill>
        <p:spPr>
          <a:xfrm>
            <a:off x="5076720" y="3108240"/>
            <a:ext cx="4876920" cy="420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cean heat tran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2376360" y="7236000"/>
            <a:ext cx="540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QJR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71280" y="2463840"/>
            <a:ext cx="986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on detrended annual-mean ORAS4 60N heat transport and sea ice concent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863640" y="2771640"/>
            <a:ext cx="3456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ntic OHT lag -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5761080" y="2771640"/>
            <a:ext cx="3456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ific OHT lag -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5"/>
          <p:cNvGrpSpPr/>
          <p:nvPr/>
        </p:nvGrpSpPr>
        <p:grpSpPr>
          <a:xfrm>
            <a:off x="3241800" y="4032360"/>
            <a:ext cx="3670200" cy="468360"/>
            <a:chOff x="3241800" y="4032360"/>
            <a:chExt cx="3670200" cy="468360"/>
          </a:xfrm>
        </p:grpSpPr>
        <p:grpSp>
          <p:nvGrpSpPr>
            <p:cNvPr id="286" name="Group 3"/>
            <p:cNvGrpSpPr/>
            <p:nvPr/>
          </p:nvGrpSpPr>
          <p:grpSpPr>
            <a:xfrm>
              <a:off x="3529440" y="4320720"/>
              <a:ext cx="3024360" cy="180000"/>
              <a:chOff x="3529440" y="4320720"/>
              <a:chExt cx="3024360" cy="180000"/>
            </a:xfrm>
          </p:grpSpPr>
          <p:sp>
            <p:nvSpPr>
              <p:cNvPr id="287" name="Rectangle 2"/>
              <p:cNvSpPr/>
              <p:nvPr/>
            </p:nvSpPr>
            <p:spPr>
              <a:xfrm rot="10800000">
                <a:off x="5689800" y="4320720"/>
                <a:ext cx="432000" cy="180000"/>
              </a:xfrm>
              <a:prstGeom prst="rect">
                <a:avLst/>
              </a:prstGeom>
              <a:solidFill>
                <a:srgbClr val="e4721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 rot="10800000">
                <a:off x="5257800" y="4320720"/>
                <a:ext cx="432000" cy="18000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13"/>
              <p:cNvSpPr/>
              <p:nvPr/>
            </p:nvSpPr>
            <p:spPr>
              <a:xfrm rot="10800000">
                <a:off x="4825800" y="4320720"/>
                <a:ext cx="432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4"/>
              <p:cNvSpPr/>
              <p:nvPr/>
            </p:nvSpPr>
            <p:spPr>
              <a:xfrm rot="10800000">
                <a:off x="4393440" y="4320720"/>
                <a:ext cx="432000" cy="1800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5"/>
              <p:cNvSpPr/>
              <p:nvPr/>
            </p:nvSpPr>
            <p:spPr>
              <a:xfrm rot="10800000">
                <a:off x="3961440" y="4320720"/>
                <a:ext cx="432000" cy="180000"/>
              </a:xfrm>
              <a:prstGeom prst="rect">
                <a:avLst/>
              </a:prstGeom>
              <a:solidFill>
                <a:srgbClr val="1e7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6"/>
              <p:cNvSpPr/>
              <p:nvPr/>
            </p:nvSpPr>
            <p:spPr>
              <a:xfrm rot="10800000">
                <a:off x="3529440" y="4320720"/>
                <a:ext cx="432000" cy="180000"/>
              </a:xfrm>
              <a:prstGeom prst="rect">
                <a:avLst/>
              </a:prstGeom>
              <a:solidFill>
                <a:srgbClr val="262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7"/>
              <p:cNvSpPr/>
              <p:nvPr/>
            </p:nvSpPr>
            <p:spPr>
              <a:xfrm rot="10800000">
                <a:off x="6121800" y="4320720"/>
                <a:ext cx="432000" cy="180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TextBox 4"/>
            <p:cNvSpPr/>
            <p:nvPr/>
          </p:nvSpPr>
          <p:spPr>
            <a:xfrm>
              <a:off x="3241800" y="4032360"/>
              <a:ext cx="36702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0.8 -0.6 -0.4  -0.2   0.2  0.4   0.6   0.8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urved Down Arrow 16"/>
          <p:cNvSpPr/>
          <p:nvPr/>
        </p:nvSpPr>
        <p:spPr>
          <a:xfrm rot="10800000">
            <a:off x="3384720" y="6057720"/>
            <a:ext cx="3095280" cy="601560"/>
          </a:xfrm>
          <a:custGeom>
            <a:avLst/>
            <a:gdLst>
              <a:gd name="textAreaLeft" fmla="*/ 717480 w 3095280"/>
              <a:gd name="textAreaRight" fmla="*/ 2302560 w 309528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3" hR="21600" stAng="10800000" swAng="5400000"/>
                <a:lnTo>
                  <a:pt x="11062" y="0"/>
                </a:lnTo>
                <a:arcTo wR="10013" hR="21600" stAng="-5400000" swAng="3652970"/>
                <a:lnTo>
                  <a:pt x="21282" y="16200"/>
                </a:lnTo>
                <a:lnTo>
                  <a:pt x="20551" y="21600"/>
                </a:lnTo>
                <a:lnTo>
                  <a:pt x="19183" y="16200"/>
                </a:lnTo>
                <a:lnTo>
                  <a:pt x="19708" y="16200"/>
                </a:lnTo>
                <a:arcTo wR="10013" hR="21600" stAng="-1747030" swAng="-3569395"/>
                <a:lnTo>
                  <a:pt x="10538" y="30"/>
                </a:lnTo>
                <a:arcTo wR="10013" hR="21600" stAng="-5483575" swAng="-5316425"/>
                <a:close/>
              </a:path>
              <a:path fill="darkenLess" w="21600" h="21600">
                <a:moveTo>
                  <a:pt x="0" y="21600"/>
                </a:moveTo>
                <a:arcTo wR="10013" hR="21600" stAng="10800000" swAng="5400000"/>
                <a:lnTo>
                  <a:pt x="10013" y="0"/>
                </a:lnTo>
                <a:arcTo wR="10013" hR="21600" stAng="-5400000" swAng="83575"/>
                <a:lnTo>
                  <a:pt x="10538" y="30"/>
                </a:lnTo>
                <a:arcTo wR="10013" hR="21600" stAng="-5483575" swAng="-531642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 - Arctic sea ice predictability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eemerg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anchard-Wrigglesworth al (2011) Journal of Clim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 rot="16200000">
            <a:off x="-807120" y="4442760"/>
            <a:ext cx="2520720" cy="4741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ting sea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 rot="5400000">
            <a:off x="8291160" y="4446720"/>
            <a:ext cx="2671920" cy="47412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ing sea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2"/>
          <p:cNvSpPr/>
          <p:nvPr/>
        </p:nvSpPr>
        <p:spPr>
          <a:xfrm>
            <a:off x="1008000" y="3471840"/>
            <a:ext cx="2737080" cy="949320"/>
          </a:xfrm>
          <a:prstGeom prst="rect">
            <a:avLst/>
          </a:pr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area anomalies associated with SST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6264360" y="5075280"/>
            <a:ext cx="2736720" cy="9493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area  anomalies with sea ice thickness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Curved Down Arrow 4"/>
          <p:cNvSpPr/>
          <p:nvPr/>
        </p:nvSpPr>
        <p:spPr>
          <a:xfrm>
            <a:off x="3527280" y="2843280"/>
            <a:ext cx="3097440" cy="601560"/>
          </a:xfrm>
          <a:custGeom>
            <a:avLst/>
            <a:gdLst>
              <a:gd name="textAreaLeft" fmla="*/ 717840 w 3097440"/>
              <a:gd name="textAreaRight" fmla="*/ 2304360 w 3097440"/>
              <a:gd name="textAreaTop" fmla="*/ 80640 h 601560"/>
              <a:gd name="textAreaBottom" fmla="*/ 520920 h 601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4" hR="21600" stAng="10800000" swAng="5400000"/>
                <a:lnTo>
                  <a:pt x="11062" y="0"/>
                </a:lnTo>
                <a:arcTo wR="10014" hR="21600" stAng="-5400000" swAng="3653043"/>
                <a:lnTo>
                  <a:pt x="21282" y="16200"/>
                </a:lnTo>
                <a:lnTo>
                  <a:pt x="20551" y="21600"/>
                </a:lnTo>
                <a:lnTo>
                  <a:pt x="19184" y="16200"/>
                </a:lnTo>
                <a:lnTo>
                  <a:pt x="19709" y="16200"/>
                </a:lnTo>
                <a:arcTo wR="10014" hR="21600" stAng="-1746957" swAng="-3569547"/>
                <a:lnTo>
                  <a:pt x="10538" y="30"/>
                </a:lnTo>
                <a:arcTo wR="10014" hR="21600" stAng="-5483495" swAng="-5316505"/>
                <a:close/>
              </a:path>
              <a:path fill="darkenLess" w="21600" h="21600">
                <a:moveTo>
                  <a:pt x="0" y="21600"/>
                </a:moveTo>
                <a:arcTo wR="10014" hR="21600" stAng="10800000" swAng="5400000"/>
                <a:lnTo>
                  <a:pt x="10014" y="0"/>
                </a:lnTo>
                <a:arcTo wR="10014" hR="21600" stAng="-5400000" swAng="83495"/>
                <a:lnTo>
                  <a:pt x="10538" y="30"/>
                </a:lnTo>
                <a:arcTo wR="10014" hR="21600" stAng="-5483495" swAng="-5316505"/>
                <a:close/>
              </a:path>
            </a:pathLst>
          </a:cu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4176720" y="2627280"/>
            <a:ext cx="1800360" cy="727560"/>
          </a:xfrm>
          <a:prstGeom prst="rect">
            <a:avLst/>
          </a:prstGeom>
          <a:solidFill>
            <a:srgbClr val="a9d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T pers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6264360" y="3492360"/>
            <a:ext cx="2736720" cy="949320"/>
          </a:xfrm>
          <a:prstGeom prst="rect">
            <a:avLst/>
          </a:prstGeom>
          <a:solidFill>
            <a:srgbClr val="329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ST anomalies impact sea ice area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08000" y="5075280"/>
            <a:ext cx="2737080" cy="9493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sea ice thickness anomalies impact sea ice area  anoma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4176720" y="6215040"/>
            <a:ext cx="1800360" cy="727560"/>
          </a:xfrm>
          <a:prstGeom prst="rect">
            <a:avLst/>
          </a:prstGeom>
          <a:solidFill>
            <a:srgbClr val="e18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 pers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576360" y="2124000"/>
            <a:ext cx="914400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EMO3.2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cean model +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LIM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sea ice model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orcings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1958-2006 DFS4.3 or 1979-2013 ERA-interi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udging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T and S toward ORAS4, timescales = 360 days below 800m, and 10 days above except in the mixed layer, except at the equator (1°S-1°N), SST &amp; SSS restoring (-40W/m2, -150 mm/day/psu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nd perturbations + 5-member ORAS4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- - - &gt; 5 members for sea ice reco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792000" y="6300720"/>
            <a:ext cx="9288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5 member sea ice reconstruction for 1958-present consistent with ocean and atmosphere states used for initial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2" descr="i00v_N_on_mean"/>
          <p:cNvPicPr/>
          <p:nvPr/>
        </p:nvPicPr>
        <p:blipFill>
          <a:blip r:embed="rId1"/>
          <a:srcRect l="0" t="0" r="0" b="21618"/>
          <a:stretch/>
        </p:blipFill>
        <p:spPr>
          <a:xfrm>
            <a:off x="139680" y="2771640"/>
            <a:ext cx="4970520" cy="300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3" descr="icesat_icethk_on"/>
          <p:cNvPicPr/>
          <p:nvPr/>
        </p:nvPicPr>
        <p:blipFill>
          <a:blip r:embed="rId2"/>
          <a:srcRect l="0" t="0" r="0" b="21618"/>
          <a:stretch/>
        </p:blipFill>
        <p:spPr>
          <a:xfrm>
            <a:off x="4968720" y="2789280"/>
            <a:ext cx="4969080" cy="30099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4"/>
          <p:cNvSpPr/>
          <p:nvPr/>
        </p:nvSpPr>
        <p:spPr>
          <a:xfrm>
            <a:off x="360360" y="2644920"/>
            <a:ext cx="43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5184720" y="2660760"/>
            <a:ext cx="43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ceS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oo much ice in central Arctic, too few in the Chukchi and East Siberian Se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9" descr="icesat_icethk_on"/>
          <p:cNvPicPr/>
          <p:nvPr/>
        </p:nvPicPr>
        <p:blipFill>
          <a:blip r:embed="rId3"/>
          <a:srcRect l="0" t="79061" r="0" b="0"/>
          <a:stretch/>
        </p:blipFill>
        <p:spPr>
          <a:xfrm>
            <a:off x="792000" y="5356080"/>
            <a:ext cx="8496360" cy="1376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3-2007 October-November Arctic sea ice thic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" descr=""/>
          <p:cNvPicPr/>
          <p:nvPr/>
        </p:nvPicPr>
        <p:blipFill>
          <a:blip r:embed="rId4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1"/>
          <p:cNvSpPr/>
          <p:nvPr/>
        </p:nvSpPr>
        <p:spPr>
          <a:xfrm>
            <a:off x="216000" y="1892160"/>
            <a:ext cx="9648720" cy="5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arch and September Arctic sea 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6" descr="sia_b02s_b02t_3_9_N"/>
          <p:cNvPicPr/>
          <p:nvPr/>
        </p:nvPicPr>
        <p:blipFill>
          <a:blip r:embed="rId1"/>
          <a:stretch/>
        </p:blipFill>
        <p:spPr>
          <a:xfrm>
            <a:off x="144360" y="2819520"/>
            <a:ext cx="4967280" cy="3838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siv_b02s_b02t_3_9_N"/>
          <p:cNvPicPr/>
          <p:nvPr/>
        </p:nvPicPr>
        <p:blipFill>
          <a:blip r:embed="rId2"/>
          <a:stretch/>
        </p:blipFill>
        <p:spPr>
          <a:xfrm>
            <a:off x="5040360" y="2819520"/>
            <a:ext cx="4968720" cy="38401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8"/>
          <p:cNvSpPr/>
          <p:nvPr/>
        </p:nvSpPr>
        <p:spPr>
          <a:xfrm>
            <a:off x="287280" y="2556000"/>
            <a:ext cx="482436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 ice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5041800" y="2554200"/>
            <a:ext cx="49690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a ice vol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647640" y="5483160"/>
            <a:ext cx="252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FS4.3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1"/>
          <p:cNvSpPr/>
          <p:nvPr/>
        </p:nvSpPr>
        <p:spPr>
          <a:xfrm flipV="1">
            <a:off x="1368360" y="5266800"/>
            <a:ext cx="71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2448000" y="4356000"/>
            <a:ext cx="2449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RAint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3"/>
          <p:cNvSpPr/>
          <p:nvPr/>
        </p:nvSpPr>
        <p:spPr>
          <a:xfrm>
            <a:off x="4392720" y="476244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1655640" y="42591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3960720" y="3970440"/>
            <a:ext cx="863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26"/>
          <p:cNvSpPr/>
          <p:nvPr/>
        </p:nvSpPr>
        <p:spPr>
          <a:xfrm flipV="1">
            <a:off x="4103640" y="375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2232000" y="3035160"/>
            <a:ext cx="1368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dIS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8"/>
          <p:cNvSpPr/>
          <p:nvPr/>
        </p:nvSpPr>
        <p:spPr>
          <a:xfrm flipH="1">
            <a:off x="2016000" y="32511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3672000" y="3035160"/>
            <a:ext cx="108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ID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30"/>
          <p:cNvSpPr/>
          <p:nvPr/>
        </p:nvSpPr>
        <p:spPr>
          <a:xfrm>
            <a:off x="4319640" y="3394080"/>
            <a:ext cx="17928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31"/>
          <p:cNvSpPr/>
          <p:nvPr/>
        </p:nvSpPr>
        <p:spPr>
          <a:xfrm>
            <a:off x="720720" y="3827520"/>
            <a:ext cx="107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865080" y="3884760"/>
            <a:ext cx="2016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FS4.3 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8497800" y="2987640"/>
            <a:ext cx="1582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Arial"/>
              </a:rPr>
              <a:t>ERAint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34"/>
          <p:cNvSpPr/>
          <p:nvPr/>
        </p:nvSpPr>
        <p:spPr>
          <a:xfrm flipH="1">
            <a:off x="8928000" y="3706920"/>
            <a:ext cx="2174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5688000" y="4427640"/>
            <a:ext cx="1728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FS4.3 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6"/>
          <p:cNvSpPr/>
          <p:nvPr/>
        </p:nvSpPr>
        <p:spPr>
          <a:xfrm>
            <a:off x="7345440" y="4643280"/>
            <a:ext cx="35856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6985080" y="3059280"/>
            <a:ext cx="863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8"/>
          <p:cNvSpPr/>
          <p:nvPr/>
        </p:nvSpPr>
        <p:spPr>
          <a:xfrm>
            <a:off x="7201080" y="34196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7489800" y="5554800"/>
            <a:ext cx="122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IO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40"/>
          <p:cNvSpPr/>
          <p:nvPr/>
        </p:nvSpPr>
        <p:spPr>
          <a:xfrm>
            <a:off x="8640720" y="5770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41"/>
          <p:cNvSpPr/>
          <p:nvPr/>
        </p:nvSpPr>
        <p:spPr>
          <a:xfrm>
            <a:off x="5546880" y="3106800"/>
            <a:ext cx="1150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5616720" y="3130560"/>
            <a:ext cx="216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FS4.3 + Nud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 flipH="1">
            <a:off x="5905080" y="385128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792000" y="6443640"/>
            <a:ext cx="9144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Bias but reasonable agreement in terms of interannual var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1" descr=""/>
          <p:cNvPicPr/>
          <p:nvPr/>
        </p:nvPicPr>
        <p:blipFill>
          <a:blip r:embed="rId3"/>
          <a:stretch/>
        </p:blipFill>
        <p:spPr>
          <a:xfrm>
            <a:off x="6910560" y="0"/>
            <a:ext cx="3170160" cy="927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 rot="16200000">
            <a:off x="4082040" y="4294800"/>
            <a:ext cx="201636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usands km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35"/>
          <p:cNvSpPr/>
          <p:nvPr/>
        </p:nvSpPr>
        <p:spPr>
          <a:xfrm rot="16200000">
            <a:off x="-808920" y="4382280"/>
            <a:ext cx="2016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s km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0" y="1103400"/>
            <a:ext cx="1008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I – Sea Ice Initializ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60360" y="6337440"/>
            <a:ext cx="50328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2303640" y="7236000"/>
            <a:ext cx="568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emas et al (2014) Climate Dynam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CFUer</cp:lastModifiedBy>
  <cp:lastPrinted>2013-09-09T17:33:01Z</cp:lastPrinted>
  <dcterms:modified xsi:type="dcterms:W3CDTF">2014-12-03T14:15:14Z</dcterms:modified>
  <cp:revision>305</cp:revision>
  <dc:subject/>
  <dc:title>Diapositiva 1</dc:title>
</cp:coreProperties>
</file>